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1"/>
          <p:cNvSpPr/>
          <p:nvPr/>
        </p:nvSpPr>
        <p:spPr>
          <a:xfrm>
            <a:off x="787320" y="762120"/>
            <a:ext cx="11430000" cy="8204040"/>
          </a:xfrm>
          <a:prstGeom prst="roundRect">
            <a:avLst>
              <a:gd name="adj" fmla="val 926"/>
            </a:avLst>
          </a:prstGeom>
          <a:solidFill>
            <a:srgbClr val="fffefb">
              <a:alpha val="95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1091880" y="1383840"/>
            <a:ext cx="10820520" cy="698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41760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787680" indent="-41724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0564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2360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5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43560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21160" indent="-4352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5676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927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91880" y="3466800"/>
            <a:ext cx="10820520" cy="2832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1880" y="355680"/>
            <a:ext cx="10820520" cy="1117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6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091880" y="1460160"/>
            <a:ext cx="10820520" cy="762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 fontScale="18000"/>
          </a:bodyPr>
          <a:p>
            <a:pPr marL="615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1" marL="61560" indent="-6156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2" marL="61560" indent="-61560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3" marL="61560" indent="-6156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4" marL="61560" indent="-61560" algn="ctr">
              <a:buClr>
                <a:srgbClr val="fffff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5" marL="61560" indent="-6156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6" marL="61560" indent="-6156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8381880"/>
            <a:ext cx="9194760" cy="470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904760" y="8788320"/>
            <a:ext cx="9194760" cy="419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rmAutofit fontScale="17000"/>
          </a:bodyPr>
          <a:p>
            <a:pPr marL="58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1" marL="58320" indent="-58320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2" marL="58320" indent="-58320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3" marL="58320" indent="-58320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4" marL="58320" indent="-58320">
              <a:buClr>
                <a:srgbClr val="fffff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5" marL="58320" indent="-58320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6" marL="58320" indent="-58320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5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43560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21160" indent="-4352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5676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927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5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92240" y="2577960"/>
            <a:ext cx="527040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6900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95520" indent="-3686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64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33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5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41640" y="2577960"/>
            <a:ext cx="527076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6900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95520" indent="-3686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64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33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092240" y="2577960"/>
            <a:ext cx="527040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6900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95520" indent="-3686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64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33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92240" y="1638360"/>
            <a:ext cx="5270400" cy="32385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092240" y="4863600"/>
            <a:ext cx="5270400" cy="33274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1" marL="260640" indent="-26064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2" marL="260640" indent="-260640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3" marL="260640" indent="-26064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4" marL="260640" indent="-260640" algn="ctr">
              <a:buClr>
                <a:srgbClr val="fffff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5" marL="260640" indent="-26064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6" marL="260640" indent="-26064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3f691e"/>
                </a:solidFill>
                <a:latin typeface="Palatino"/>
              </a:rPr>
              <a:t>fire: the first oven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rcRect l="5596" t="0" r="5474" b="0"/>
          <a:stretch/>
        </p:blipFill>
        <p:spPr>
          <a:xfrm>
            <a:off x="2476440" y="2743200"/>
            <a:ext cx="8305920" cy="622764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0" blurRad="0" rotWithShape="0">
              <a:srgbClr val="000000">
                <a:alpha val="30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1" descr=""/>
          <p:cNvPicPr/>
          <p:nvPr/>
        </p:nvPicPr>
        <p:blipFill>
          <a:blip r:embed="rId2"/>
          <a:stretch/>
        </p:blipFill>
        <p:spPr>
          <a:xfrm>
            <a:off x="2717640" y="2260440"/>
            <a:ext cx="7556760" cy="67089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4714"/>
                </a:solidFill>
                <a:latin typeface="Palatino"/>
              </a:rPr>
              <a:t>Ancient Greek Wood burning stove</a:t>
            </a:r>
            <a:endParaRPr b="1" lang="en-US" sz="36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691e"/>
                </a:solidFill>
                <a:latin typeface="Palatino"/>
              </a:rPr>
              <a:t>circa 79 a.d. brick and mortar oven</a:t>
            </a:r>
            <a:endParaRPr b="1" lang="en-US" sz="3600" spc="-1" strike="noStrike">
              <a:solidFill>
                <a:srgbClr val="7f7f7f"/>
              </a:solidFill>
              <a:latin typeface="Palatino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2"/>
          <a:stretch/>
        </p:blipFill>
        <p:spPr>
          <a:xfrm>
            <a:off x="1392120" y="2260440"/>
            <a:ext cx="10211040" cy="683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691e"/>
                </a:solidFill>
                <a:latin typeface="Palatino"/>
              </a:rPr>
              <a:t>1735 castrol stove:</a:t>
            </a:r>
            <a:br>
              <a:rPr sz="3600"/>
            </a:br>
            <a:r>
              <a:rPr b="1" lang="en-US" sz="1800" spc="-1" strike="noStrike">
                <a:solidFill>
                  <a:srgbClr val="003dcc"/>
                </a:solidFill>
                <a:latin typeface="Palatino"/>
              </a:rPr>
              <a:t>First stove you could cook on top of</a:t>
            </a:r>
            <a:endParaRPr b="1" lang="en-US" sz="1800" spc="-1" strike="noStrike">
              <a:solidFill>
                <a:srgbClr val="7f7f7f"/>
              </a:solidFill>
              <a:latin typeface="Palatino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2654280" y="2581200"/>
            <a:ext cx="68580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4714"/>
                </a:solidFill>
                <a:latin typeface="Palatino"/>
              </a:rPr>
              <a:t>Cast iron oven</a:t>
            </a:r>
            <a:endParaRPr b="1" lang="en-US" sz="3600" spc="-1" strike="noStrike">
              <a:solidFill>
                <a:srgbClr val="7f7f7f"/>
              </a:solidFill>
              <a:latin typeface="Palatino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3581280" y="2616120"/>
            <a:ext cx="44578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3f691e"/>
                </a:solidFill>
                <a:latin typeface="Palatino"/>
              </a:rPr>
              <a:t>coal stove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5892840" cy="59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4714"/>
                </a:solidFill>
                <a:latin typeface="Palatino"/>
              </a:rPr>
              <a:t>1920’s gas oven</a:t>
            </a:r>
            <a:endParaRPr b="1" lang="en-US" sz="3600" spc="-1" strike="noStrike">
              <a:solidFill>
                <a:srgbClr val="7f7f7f"/>
              </a:solidFill>
              <a:latin typeface="Palatino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3187800" y="2933640"/>
            <a:ext cx="57150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4714"/>
                </a:solidFill>
                <a:latin typeface="Palatino"/>
              </a:rPr>
              <a:t>modern electric oven</a:t>
            </a:r>
            <a:endParaRPr b="1" lang="en-US" sz="3600" spc="-1" strike="noStrike">
              <a:solidFill>
                <a:srgbClr val="7f7f7f"/>
              </a:solidFill>
              <a:latin typeface="Palatino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2"/>
          <a:stretch/>
        </p:blipFill>
        <p:spPr>
          <a:xfrm>
            <a:off x="3225960" y="2527200"/>
            <a:ext cx="5587920" cy="605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Hannah Liss</cp:lastModifiedBy>
  <dcterms:modified xsi:type="dcterms:W3CDTF">2012-04-19T23:48:56Z</dcterms:modified>
  <cp:revision>1</cp:revision>
  <dc:subject/>
  <dc:title>fire: the first oven</dc:title>
</cp:coreProperties>
</file>